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25.png" ContentType="image/png"/>
  <Override PartName="/ppt/media/image7.pct" ContentType="image/x-pict"/>
  <Override PartName="/ppt/media/image9.png" ContentType="image/png"/>
  <Override PartName="/ppt/media/image22.pct" ContentType="image/x-pict"/>
  <Override PartName="/ppt/media/image6.pct" ContentType="image/x-pict"/>
  <Override PartName="/ppt/media/image11.jpeg" ContentType="image/jpeg"/>
  <Override PartName="/ppt/media/image3.pct" ContentType="image/x-pict"/>
  <Override PartName="/ppt/media/image10.pct" ContentType="image/x-pict"/>
  <Override PartName="/ppt/media/image21.jpeg" ContentType="image/jpeg"/>
  <Override PartName="/ppt/media/image5.pct" ContentType="image/x-pict"/>
  <Override PartName="/ppt/media/image4.pct" ContentType="image/x-pict"/>
  <Override PartName="/ppt/media/image23.pct" ContentType="image/x-pict"/>
  <Override PartName="/ppt/media/image20.jpeg" ContentType="image/jpeg"/>
  <Override PartName="/ppt/media/image15.pct" ContentType="image/x-pict"/>
  <Override PartName="/ppt/media/image19.jpeg" ContentType="image/jpeg"/>
  <Override PartName="/ppt/media/image2.pct" ContentType="image/x-pict"/>
  <Override PartName="/ppt/media/image18.pct" ContentType="image/x-pict"/>
  <Override PartName="/ppt/media/image17.pct" ContentType="image/x-pict"/>
  <Override PartName="/ppt/media/image14.jpeg" ContentType="image/jpeg"/>
  <Override PartName="/ppt/media/image24.pct" ContentType="image/x-pict"/>
  <Override PartName="/ppt/media/image1.pct" ContentType="image/x-pict"/>
  <Override PartName="/ppt/media/image8.jpeg" ContentType="image/jpeg"/>
  <Override PartName="/ppt/media/image16.pct" ContentType="image/x-pict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AD10-FF07-4430-B587-6BEB570EF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CHANGE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=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bees have genomic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hat these are genetically identical animals and this is controlled in embry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 Perl - simple scripting language based tools availabel for free and often used in bioinfor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alignment for a gene without any clone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rved residues are shown by dots and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GL = perl libraries specific for comparative genom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ST a simple alignment tool nearly ubiquitous in the world.  TBLASTN takes protein and search for all the possible translations in a nulcotide sequence like a new gen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sual language also import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ees have waggle d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s use solar visual cues to navigate as we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=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m currently working in the model organism D. melanogaster as well as several closely related Drosophi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0 The Dmel genome was complete in a collaboration between Celera Genomics and the Berkeley Drosophila Genome Project, headed by Gerry Ru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2001 an extensive re-annotation of all gene models was undertaken.  In collaboration with FlyBase 10 people, including myself, re-annotated all of the gene models in Dm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ING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ly published on, increasingly put in databases, many public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conservation of genes and orthology, comaprative genomics is not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se is very deep, some are only f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ess is another example - single g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apdate is a cAMP singaling system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ptera also social,  140 MYA termites the first social ins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ll it out.  I am looking for genes and regulatory motifs affectin behavior in eusocial ins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s lots of work, but nothing gen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sive natural fistory ans assay for all of these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genetic, no absolute hierarchy… a lot like 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genetics is the dominat regulation of eusocial 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xample JH and temperature make the switch to different line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them through the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polyphe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NOTHNG IS KNOW OF DOWNSTREAM EVENTS after JH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s that are controlled epigenetically within an individual as opposed to between ca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08B6-0F24-4662-A6A5-AA0BDADE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34FC-5B99-4702-BF3E-4F845932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BC7-4B40-4408-8D22-6B9E35E87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7B01-2979-4A70-9BA3-73C3F137E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A55-7746-4091-BD3A-7741C544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D4D-5C57-4804-B226-C91DDD87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7D81-5405-4BAB-B496-4D01DB2C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84F6-9BE3-464B-A659-184416BD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B933-3435-4139-B09A-FBC43E8A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6274-F38B-4D1C-A37D-E11DD130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1BE-2C9B-4828-9C3C-983AA64A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8AE4-4315-4EAA-A975-004CFBB2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0D7F-7839-423E-B529-E2893D9CE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hyperlink" Target="javascript:AL_get(this,%20&apos;jour&apos;,%20&apos;Science.&apos;);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image" Target="../media/image7.pct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609120"/>
            <a:ext cx="8915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IBO: A Social Insect Behavior Ontology for Ants and Be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047760" y="3276360"/>
            <a:ext cx="6095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topher D. Smith Ph.D.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istant Professor Bioinformatic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 Francisco State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n Francisco, CA 941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ithcd@sfs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osophila Heterochromatin Genome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wrence Berkeley National Lab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rkeley, CA 947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dhgp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smith@fruitfly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62160" y="5029200"/>
            <a:ext cx="1709640" cy="1752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320" y="3753000"/>
            <a:ext cx="304776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Worker &amp; Queen Bees Express Unique Gene Subs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875040" y="685800"/>
            <a:ext cx="5268960" cy="5448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269960" y="6247440"/>
            <a:ext cx="55908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eler et. al. Expression profiles during honeybee caste determin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omeBiology2000, 2(1):research0001.1-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0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279440"/>
            <a:ext cx="3809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tically identical animals exhibit widely varied gene expression pro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ous caste specific genes have been identified in bees, ants &amp; ter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completion of ‘beenome’ many more behavioral microarray expts. plan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147840"/>
            <a:ext cx="9182160" cy="2186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Identification of Putative Ortholo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1066680"/>
            <a:ext cx="8762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LASTN approach using the Comparative Genomics Library (CG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‘multiple-hit’ used to determine orthologous ex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thologous introns inferred when both flanking exons are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320" y="27273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G409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Behaviors can be linked to SN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ricanized b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sue Enemy 10-30x fur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eactive to color,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-10x stin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ngage 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rt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r defense peri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comparative annotation we can link ‘Africanized’ SNPs to gene and regulatory ann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Dopamine receptor mut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D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erotonin promoter polymorph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Slc6a4,dS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199680" y="657360"/>
            <a:ext cx="6016680" cy="5517000"/>
            <a:chOff x="3199680" y="657360"/>
            <a:chExt cx="6016680" cy="5517000"/>
          </a:xfrm>
        </p:grpSpPr>
        <p:sp>
          <p:nvSpPr>
            <p:cNvPr id="97" name=""/>
            <p:cNvSpPr/>
            <p:nvPr/>
          </p:nvSpPr>
          <p:spPr>
            <a:xfrm>
              <a:off x="3199680" y="2590920"/>
              <a:ext cx="196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Diseng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894360" y="65736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Percep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879240" y="120348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83760" y="1752840"/>
              <a:ext cx="207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iscr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Iden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296120" y="266724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le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86400" y="2895840"/>
              <a:ext cx="155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ecruit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10280" y="3641760"/>
              <a:ext cx="127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roac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40960" y="4480200"/>
              <a:ext cx="2075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iscr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Iden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15360" y="464832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re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2080" y="5775480"/>
              <a:ext cx="125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TTACK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20120" y="99072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620120" y="15242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0120" y="243864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0120" y="3048120"/>
              <a:ext cx="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620120" y="4038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20120" y="5181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629400" y="487692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419360" y="990720"/>
              <a:ext cx="243828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876560" y="1447920"/>
              <a:ext cx="205740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5181480" y="2210040"/>
              <a:ext cx="144792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5257440" y="281952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7086240" y="2971800"/>
              <a:ext cx="22860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4267080" y="3124080"/>
              <a:ext cx="152424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5028840" y="3048120"/>
              <a:ext cx="198108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4647960" y="2971440"/>
              <a:ext cx="243828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48520" y="5105520"/>
              <a:ext cx="68580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105520" y="2895480"/>
              <a:ext cx="30456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3886200" y="3124080"/>
              <a:ext cx="2819520" cy="281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172200" y="3276720"/>
              <a:ext cx="76320" cy="137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48520" y="3276720"/>
              <a:ext cx="106668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248520" y="3276720"/>
              <a:ext cx="1066680" cy="243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6874920" y="6400800"/>
            <a:ext cx="2291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pted from Breed &amp; Hu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4. Annu. Rev. Entolom. 49:271-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eeding the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1240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only 100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d 3500 behaviors in ants and b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from Drosophila GO behavior terms and bee/ant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446640" y="1295280"/>
            <a:ext cx="3030480" cy="5410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510240" y="1739880"/>
            <a:ext cx="2633760" cy="40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-25000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Link Behaviors to ‘Language’ Gen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105520" y="838080"/>
            <a:ext cx="3581280" cy="342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320" y="914400"/>
            <a:ext cx="39621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s have more chemical producing glands than any known org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ens can chemically inhibit fertility through col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ens can call ‘group alarm’ for attack &amp;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can communicate novel information to others back and forth (i.e. teac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Behaviors to Chemic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‘Mortician Ants’ respond to oleate from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55480" y="6613560"/>
            <a:ext cx="29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ed in  Holldobler  &amp; Wilson, The Ants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62520" y="4343400"/>
            <a:ext cx="493524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7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Eusocial Insects Use a Complex Chemical Language that is Genetically Defined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s an important aspect of social evolution across ta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er Conflict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on of lab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 Defe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s Can ‘Read’ Hundreds of Chemic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receptors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genic Am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octapamine involved in honeybee ag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w genes ident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955480" y="6613560"/>
            <a:ext cx="299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ed in  Holldobler  &amp; Wilson, The Ants, 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776840" y="1066680"/>
            <a:ext cx="41860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Rounded MT Bold"/>
              </a:rPr>
              <a:t>Semiochemical &amp; Anatomy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609588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s_from relationships need to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5168880" cy="4292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172200" y="1981080"/>
            <a:ext cx="260352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Linking Behavior, Anatomy, &amp; Semio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066680" y="1203480"/>
            <a:ext cx="723924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32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Rounded MT Bold"/>
              </a:rPr>
              <a:t>Present &amp; Future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280" y="99036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terms &amp; definition from honeybee and ant literature &amp;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 of behaviors associated to genes discovered in behavioral microarray experi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 of ‘derives_from’ relationships for semiochemicals and anat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ation of ‘precedes’ and ‘follows’ relationships for behavior actions (e.g. ma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ation of Drosophila anatomy onotology for honeybees and 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ation of cross-products with other ontologies such as CHEBI and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5029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280" y="838080"/>
            <a:ext cx="8839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osophila Heterochromatin Genome Project (DHG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ris Mungall - Databases,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ole Washington - P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zanna Lewis- Group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hn Richter - OBO-Ed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bo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l Tsutsui - UC Ir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Elsik - Bee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2057400" cy="5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44956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</a:rPr>
              <a:t>Drosophila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Arial Rounded MT Bold"/>
              </a:rPr>
              <a:t>     melanog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 years of experiment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’ sequenced gen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well-characterized behavior &amp; other pheno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array &amp; other large scale data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48160" y="0"/>
            <a:ext cx="4695840" cy="6324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24280" y="6384960"/>
            <a:ext cx="4343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ams &amp; Venter et. 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ience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2000 Mar 24;287(5461):2185-9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606920" y="3672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1980720"/>
            <a:ext cx="6400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0000"/>
                </a:solidFill>
                <a:latin typeface="Lucida Calligraphy"/>
              </a:rPr>
              <a:t>fin</a:t>
            </a:r>
            <a:br>
              <a:rPr sz="24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5715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Genes Often Very Conserved in Metazo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yel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classic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yes in flies, m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Blindness (Aniridi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coh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a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AMP sign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SH = odorant recep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&amp;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nce = cAMP metabo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b Development (Homeot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867280" y="4467240"/>
            <a:ext cx="3276720" cy="2390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2017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52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5867280" y="2057400"/>
            <a:ext cx="32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Cooperativity: </a:t>
            </a:r>
            <a:r>
              <a:rPr b="0" i="1" lang="en-US" sz="3300" spc="-1" strike="noStrike">
                <a:solidFill>
                  <a:srgbClr val="000000"/>
                </a:solidFill>
                <a:latin typeface="Arial Rounded MT Bold"/>
              </a:rPr>
              <a:t>D. melanogaster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i="1" lang="en-US" sz="3300" spc="-1" strike="noStrike">
                <a:solidFill>
                  <a:srgbClr val="000000"/>
                </a:solidFill>
                <a:latin typeface="Arial Rounded MT Bold"/>
              </a:rPr>
              <a:t>dunce</a:t>
            </a: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 gene involved in learning &amp; group behavior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960" y="1599840"/>
            <a:ext cx="5257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AMP phosphodieste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rch Aggregation’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roup advantage in finding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inette &amp; Robichon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s Brain Behav. 2004 Feb;3(1):39-50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33"/>
                </a:solidFill>
                <a:latin typeface="Arial"/>
              </a:rPr>
              <a:t>dunce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overexpressed on worker bees relative to queen in b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udice &amp; Pereira. Insect Molecular Biology (2006) 15 (1), 33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tholog &amp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nce-li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s related to schizophrenia in humans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ar &amp; Morteous. Science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Vol.310. no. 5751, pp. 11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486400" y="1676520"/>
            <a:ext cx="358128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882720"/>
            <a:ext cx="6724800" cy="65847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Numerous Insect Genomes Avail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11600" y="64008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lion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518148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Eusocial Insects Are Overdue for Genomic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960" y="914400"/>
            <a:ext cx="51814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Natural History &amp; Litera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 Assays Already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ve Epigenet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g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s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 Social 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vera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rosophil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use genetic, genomic, phenotype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cial Insect Similarities to Hum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t global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ali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avery, Policing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viewed in “The Ants” E. O Wil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iculture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ueller &amp; Schultz. Science, v281:203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ing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nks &amp; Richardson. Nature. v439:1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6280" y="4846680"/>
            <a:ext cx="227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11,500 Ant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25,000 Be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2800 Termit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800600" y="1295280"/>
            <a:ext cx="4368600" cy="3376440"/>
            <a:chOff x="4800600" y="1295280"/>
            <a:chExt cx="4368600" cy="337644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4800600" y="1295280"/>
              <a:ext cx="3359160" cy="335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420320" y="4120920"/>
              <a:ext cx="1748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rimaldie &amp; Eng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volution of the Inse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ambridge University Pres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 Rounded MT Bold"/>
              </a:rPr>
              <a:t>Eusocial Insects Differeniate into Castes with Distinct Behaviors &amp; Shap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46800" y="6400800"/>
            <a:ext cx="2800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 Credit : Amy Beaton, Rubin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bdgp.org/cgi-bin/ex/insitu.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733920" y="4648320"/>
            <a:ext cx="2666880" cy="2125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066680" y="4572000"/>
            <a:ext cx="2667240" cy="21556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social Hall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ision of labor- Workers, Soldier, Queens, etc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rile Castes (not req’d)- Single &amp; Multiple Queens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generations lives in nest - Older generations care for you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behavi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tically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usocial behavior has arisen many times in different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tic predisposition, but no ‘hard-corded’ cas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tes are temporally regulated in som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havior is epigenetically reg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tically identical individuals express different phen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aste Programming Depend on Hormones &amp; Environment C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35000" y="1095480"/>
            <a:ext cx="7956720" cy="5229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768920" y="6308640"/>
            <a:ext cx="4368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bouheif</a:t>
            </a:r>
            <a:r>
              <a:rPr b="1" lang="en-US" sz="1000" spc="-1" strike="noStrike" baseline="30000">
                <a:solidFill>
                  <a:srgbClr val="333333"/>
                </a:solidFill>
                <a:latin typeface="Arial"/>
              </a:rPr>
              <a:t> &amp;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Wra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Evolution of the Gene Network Underlying Wing Polyphenism in 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3333"/>
                </a:solidFill>
                <a:latin typeface="Arial"/>
              </a:rPr>
              <a:t>Science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12 July 2002: Vol. 297. no. 5579, pp. 249 - 2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92200" y="6384960"/>
            <a:ext cx="17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H = Juvenile Horm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overgent Behaviors in Ants &amp; Be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900000"/>
            <a:ext cx="708660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8:56:15Z</dcterms:created>
  <dc:creator>Christopher Smith</dc:creator>
  <dc:description/>
  <dc:language>en-US</dc:language>
  <cp:lastModifiedBy>Christopher Smith</cp:lastModifiedBy>
  <cp:lastPrinted>2006-03-28T09:47:35Z</cp:lastPrinted>
  <dcterms:modified xsi:type="dcterms:W3CDTF">2006-12-01T22:56:03Z</dcterms:modified>
  <cp:revision>536</cp:revision>
  <dc:subject/>
  <dc:title>PowerPoint Presentation</dc:title>
</cp:coreProperties>
</file>